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breeze.wav" ContentType="audio/x-wav"/>
  <Override PartName="/ppt/media/image9.gif" ContentType="image/gif"/>
  <Override PartName="/ppt/media/explode.wav" ContentType="audio/x-wav"/>
  <Override PartName="/ppt/media/image15.png" ContentType="image/png"/>
  <Override PartName="/ppt/media/image6.gif" ContentType="image/gif"/>
  <Override PartName="/ppt/media/image14.png" ContentType="image/png"/>
  <Override PartName="/ppt/media/image13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8.jpeg" ContentType="image/jpeg"/>
  <Override PartName="/ppt/media/laser.wav" ContentType="audio/x-wav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B5A-4E94-4DF2-8476-471D2EB9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C0A-E5F7-4970-930E-05A37572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E5DB4-2D4A-461B-B827-AE4427A9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C2A55-B2A5-4B97-A2CD-90C094BC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95A34-7685-48B9-A6AD-FD37702F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D397D-8214-4F7B-B24A-C297B6E5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B7632-B933-4FA1-B59F-7DE1263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BDB84-F342-432B-82DA-414CB767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90661-10ED-4C83-830C-A9E90090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17DAB-7CC5-4478-AAA8-3C72746A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48478-841A-4D08-AA3B-5441C8A6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CEB91-5D38-426C-BF42-053D4075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6EF-3C55-44DA-8FB5-27D5A602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D4274-8C10-473C-AE82-4F18C0E1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3ADAB-95EC-456A-83F0-CB0DBD26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1C4D5-AE3E-479E-AC44-53572621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15DC5-D075-4AE4-82EE-9200F6C9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3376F-C7E9-4EC3-9BA4-21FF263B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144A3-654E-4F09-AFD8-AC29865A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4ECC2-44D8-4ECE-9127-5024B841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665D6-E975-46ED-B90C-60877BA2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5AA75-7A79-48CA-BFA4-1E624E8C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22E8B-5755-4E4E-A43D-CD4B8D19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268-BBA8-4D4B-A823-48A57306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48735-5740-4AC2-ADAD-DC93DA7B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3C089-A0F8-44DE-971C-AB7D403B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C3770-B472-45D1-9354-875B1EFC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F1A91-0B32-4441-9A7F-1DFAE5E2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E54D0-B591-4DB3-937F-FB290ABF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0E128-8015-4E96-997D-490D9B83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E436F-03A0-4F5E-B533-82B79DA5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86C67-625E-4A62-8139-AABDE284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3ED67-0509-4CD8-863A-00ED9BCE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EDD32-E8DE-4AE7-BA71-21F4AFFE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2E33-E842-4D31-B7F9-5981932B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7667D-D983-4E85-90CD-29B277E5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F4C5E-1914-4B00-9E80-69B6CCDA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9DC6A-BEDE-46EE-ACC4-C765F1FA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8735E-F686-406F-A500-95DB96D1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586DC-CE97-4CC1-8F74-882A132A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D8E92-CA67-4185-809F-BC838788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1D6D0-9B96-41D8-B93D-9445F918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29B3A-1028-4B06-9B19-8DC59FB7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02CEC-F257-4699-957E-069792E0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E99FC-0683-44F5-8A72-BCA0DED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94E2-B650-4249-A694-0FB4109D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65C7F-5BE8-4602-8ACA-13DACC66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2914F-8F3E-4A79-8018-83170E3F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6A519-357F-4EF3-9CA7-813282F2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C76B7-5D57-4AD9-BC3A-27792F9D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5C9F5-A1E1-497B-AE56-92628B66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B75D7-5B2E-4CD9-81F1-B4642E4F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042B3-233D-45CD-8609-1BE7B7AB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C11E3-7930-4694-A87C-27A07B07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19E4C-789A-4BF4-99E3-5CCE7BA5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B7B66-5941-45C4-A778-42F58C80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7363-69CD-4009-BB2C-E2D0FFB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735B0-52D3-4B96-806B-1E4396F8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3C305-A1DA-4116-8418-161A4616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2C824-0E9C-40EB-B8B1-627B18DF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D752F-98D5-4899-AD5A-1DB8FB42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1C462-399B-4748-B4C6-BC7A4338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8397F-2D17-4F0E-8059-C379FE7E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B03CC-9E3C-4B8B-A6F2-AB972E8B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0C7EB-BB2C-40EE-8ABF-DDDA2FAF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99C76-A49A-4CF9-9F09-C5BDAC15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C9BC7-211D-4239-B057-68E1EFD3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3997-A1E7-4C9B-BCBB-BC79E4A3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B2AA4-91CB-43EB-A8CC-E8CECE26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5F35D-EBDF-4227-9B4B-78BCD1BF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F32AC-73C4-496C-9D15-71680D6F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1AA15-84AD-417C-A14E-B9691D02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CE0DF-4EAC-4174-8AD8-970BD942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3656C-6333-4661-9E75-2B4F2BBC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2BF55-845F-4B26-ACAE-DCF491EF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428E1-890B-4418-BE4E-D10B97B1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AE6BA-1A4F-4306-8306-F00542D4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50CD9-96A7-4E43-9345-0FA5B394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CE61-6F57-4D3C-8DCB-5005D006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D034B-5684-40C8-BCB8-A583ECB7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28439-786A-44E8-BC73-D65D714A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7A566-D112-4CE4-A7C7-569821E2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EFC0F-03A2-4BAC-B320-765FF2F2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C8393-33FA-4F1A-AC40-34FFBFCE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34C74-A2F1-4BE3-9513-4120B625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284424-6240-495E-8ECB-96D4ED78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0BF35-7222-402F-9162-1B17A814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F3205-7A4F-4D5D-A1C2-7106B326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9D875-A107-4A9D-AF79-5D2D3A09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ADEC-9FE8-4C74-AF91-98B25E19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5830E-20E1-4C18-AA18-3F9B55CB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1871-4833-4C36-B959-03171286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2D9-4E15-4843-9114-B0C2CE3E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91A5-1BE1-4240-BD9A-AEFF0888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E6B1-89A3-4AA6-B274-CA28A3EF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7164-0D7B-4E70-8A2B-E4C48050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1B1C-56EA-498A-B2E3-A124BEDA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F657-A5A6-4181-B9C4-B3DA5AAF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AA7C-1DA1-4206-905C-59C329C2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5DC9-AA5F-4DF0-A624-A54FDF3C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E1DC-06B8-44F9-B2E6-61C05090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9D030-615C-40E9-BFE1-E11097AE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57EF6-489C-4EB6-A3A5-100AA588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799-24F6-4F48-A827-9FC68EB4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712CD-593F-40CF-B4E3-3C41C085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76F54-9BBE-41BD-807E-B489FB5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A4523-F4C5-49B0-A092-0EFE8497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9A10-C3B7-4661-9E91-63AAFBD4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3EFF-FF96-404B-ADBE-1D8091AA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0D773-68C4-4107-AB2D-8509CCC5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06667-B276-4D28-B355-9B76F65B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7CE59-8D91-4C4A-AC23-65552CAA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A1B4-D7E5-4F7E-A98C-D23F71EB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3CE6E-AD0F-4857-9AC6-4CEADB72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F32-6F6D-4377-9292-4949DE31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1925C-7D86-460B-AC43-CB3B2D96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32C9-58DC-4D7F-9CD0-AF429E50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C1257-87F5-44ED-BB64-AB7069E3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F39B3-5F37-4AB0-85FB-25BA9B8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5CE02-8D3D-4B24-A7FB-EA23DCC2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E658B-E799-4DF7-B5CC-FCB9B788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8FBE0-7795-466A-9090-132B52B9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59BD0-76CC-448E-BCF1-9492A450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1E3D-621F-4132-A226-A2F1A910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A54D1-6A6B-480A-BEA8-22967006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F0D-0ACD-418A-AD3F-43893FB1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41AF6-50A1-4882-AB93-0581F594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AE075-DADC-45A9-AEC7-22FBE2C9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4A5B7-F0BE-4F55-B5E6-215FD920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D1E39-EF77-4DAD-9108-5E696B80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A34EB-6263-4BD5-89E7-1A8020BD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BC0AA-136D-45AA-BF71-1ED9B6A4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28C16-C57F-4183-8B29-268E09EF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785C4-39A9-4CF4-894B-D98E7F11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447F-21AE-4BE1-88DD-42F0DFD7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0CF7B-90AE-4287-B989-83BF5275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79C-78B6-40B4-96AA-C57ACEEE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3CF85-D60A-4C8A-B170-A20636AC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16AA0-2E3F-496C-90A1-7F45D8BE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EEFB3-63E3-473E-B89D-9E895DBC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CB18E-499B-44DC-9908-1969922E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5D616-8D2B-42BC-83AF-52E0437E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4B18A-8E6B-42C2-8577-52CFBE42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2CF7-7157-404F-875F-D18DB2D7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97F81-253C-4DF2-9674-7A48727E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A1E7A-DB30-49F2-8363-BC3D298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315C8-83A0-47DA-9C96-5692C374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1D1-20EB-483F-81D0-DE374875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13168-60F0-418A-AA9D-2995522B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6E947-1555-4A71-9006-7AAFF19F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CBCE7-FD3E-452F-B27D-C51DDEEA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D96ED-5289-41F4-AB12-F678DB00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1975C-9124-4815-87D8-8EFAABC7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6149F-80E9-42F5-8302-5C9BC8C6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5FC46-0E80-4EA8-A906-2A75B957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D427B-E4AF-4CD3-B1AD-5C863A29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1F073-EDF5-47D4-B9A1-F36BCB13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94786-A6AE-4851-A026-A1727DA1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474-3C1C-4EFD-9EA6-77AE1AE9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67027-5371-4BF5-9C2C-92241E38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DF85A-D978-46C9-8EF7-3AD1EF36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B7EA4-FB35-4504-A515-638046DC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1262B-11C3-4ECF-BC95-77A2DDD4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4DDDA-5CFE-4293-BC61-56F65A07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C5663-5D13-4C62-ACDD-26A5E662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0BB71-6D7B-4E7E-89AF-C051E12A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B97A1-5FE7-41FB-B648-3E27AA57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DC20A-395C-42DB-B283-888104E8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DCF40-6DFD-452F-8109-F255DF5C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185-FF21-443B-A54E-10D537F9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7DED5-2DAB-4E14-81DE-A949DCC2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8C4E7-AC7B-42BE-AB7E-5CC1BA0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82756-D0BC-4B10-A5C1-5EC76462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C1C03-D978-4264-9F20-F0C9E0A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CE3CD-462E-430A-9CF9-F97645C7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45E20-8E22-4B39-9C7E-894C1F5B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8427F-83FB-41CB-A5CA-213F645A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8CAB5-81B3-4F89-8FF4-A01A42B2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5C688-F4C4-443C-8150-BAA0515D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9212A-D41E-477C-B3D2-4A5A400C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7908-0C88-4022-B4EF-147AEAEB1C1D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5240-E74F-4B11-A49E-87191BF00A6A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2C5D-FF6B-41A2-AC7F-AE93F59C925D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3FFD-E502-4C31-9505-9BDCA66729B8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2B67-165C-429F-A173-687AE701A2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76FF-9BF5-490E-8815-11677FE648A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24BB-01E4-4A85-A582-45DE3FB41F5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DFC8-1C21-4066-98B0-22F99E7CC7B3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E577-F710-4C5A-AFB0-3B8269CD20F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44EE-F666-47D8-878C-894C0B40506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4F38-3FF2-4C52-8FE2-1CF2DCB8C47C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F2E4-5C27-4F15-BF90-834E6A84204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135E-1404-4662-AB49-E0CD5FDBA44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EC74-B78D-4168-800F-F5CCF64876F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9AD5-5D2F-4AF8-80C9-91C90BC7748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93080" cy="31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veman"/>
              </a:rPr>
              <a:t>THE THREE STATES</a:t>
            </a:r>
            <a:br>
              <a:rPr sz="4000"/>
            </a:br>
            <a:r>
              <a:rPr b="1" lang="en-US" sz="4400" spc="-1" strike="noStrike">
                <a:solidFill>
                  <a:srgbClr val="333333"/>
                </a:solidFill>
                <a:latin typeface="Cave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Caveman"/>
              </a:rPr>
              <a:t>OF</a:t>
            </a:r>
            <a:br>
              <a:rPr sz="3200"/>
            </a:br>
            <a:r>
              <a:rPr b="1" lang="en-US" sz="4400" spc="-1" strike="noStrike">
                <a:solidFill>
                  <a:srgbClr val="333333"/>
                </a:solidFill>
                <a:latin typeface="Caveman"/>
              </a:rPr>
              <a:t>MATT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ve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438280" y="37335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Kristen ITC"/>
              </a:rPr>
              <a:t>By: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Kristen ITC"/>
              </a:rPr>
              <a:t>Salome Matano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p:transition advTm="12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1917360"/>
            <a:ext cx="758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232"/>
                </a:solidFill>
                <a:latin typeface="Perpetua Titling MT"/>
              </a:rPr>
              <a:t>What is matter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324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Matter is anything t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takes up space </a:t>
            </a: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and </a:t>
            </a:r>
            <a:r>
              <a:rPr b="0" lang="en-US" sz="3600" spc="-1" strike="noStrike">
                <a:solidFill>
                  <a:srgbClr val="008000"/>
                </a:solidFill>
                <a:latin typeface="Calisto MT"/>
              </a:rPr>
              <a:t>has mass</a:t>
            </a: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Calisto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p:transition advTm="8000"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Properties of Matter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44" name="Content Placeholder 3" descr=""/>
          <p:cNvPicPr/>
          <p:nvPr/>
        </p:nvPicPr>
        <p:blipFill>
          <a:blip r:embed="rId1"/>
          <a:stretch/>
        </p:blipFill>
        <p:spPr>
          <a:xfrm>
            <a:off x="774720" y="1828800"/>
            <a:ext cx="7588080" cy="4297320"/>
          </a:xfrm>
          <a:prstGeom prst="rect">
            <a:avLst/>
          </a:prstGeom>
          <a:ln w="0">
            <a:noFill/>
          </a:ln>
        </p:spPr>
      </p:pic>
      <p:pic>
        <p:nvPicPr>
          <p:cNvPr id="645" name="Diagram 6" descr=""/>
          <p:cNvPicPr/>
          <p:nvPr/>
        </p:nvPicPr>
        <p:blipFill>
          <a:blip r:embed="rId2"/>
          <a:stretch/>
        </p:blipFill>
        <p:spPr>
          <a:xfrm>
            <a:off x="1523880" y="1268280"/>
            <a:ext cx="6096240" cy="433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FlashDLig"/>
              </a:rPr>
              <a:t>SOLIDS</a:t>
            </a:r>
            <a:endParaRPr b="0" lang="en-US" sz="115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47" name="Picture 5" descr="j0283725"/>
          <p:cNvPicPr/>
          <p:nvPr/>
        </p:nvPicPr>
        <p:blipFill>
          <a:blip r:embed="rId1"/>
          <a:srcRect l="0" t="21948" r="0" b="21948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3" descr="MPj03961280000[1]"/>
          <p:cNvPicPr/>
          <p:nvPr/>
        </p:nvPicPr>
        <p:blipFill>
          <a:blip r:embed="rId2"/>
          <a:srcRect l="0" t="32006" r="0" b="32006"/>
          <a:stretch/>
        </p:blipFill>
        <p:spPr>
          <a:xfrm>
            <a:off x="464832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MPj03873030000[1]"/>
          <p:cNvPicPr/>
          <p:nvPr/>
        </p:nvPicPr>
        <p:blipFill>
          <a:blip r:embed="rId3"/>
          <a:stretch/>
        </p:blipFill>
        <p:spPr>
          <a:xfrm>
            <a:off x="1751040" y="2135160"/>
            <a:ext cx="2192400" cy="218916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  <p:sndAc>
      <p:stSnd>
        <p:snd r:embed="rId4" name="laser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6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ffffff"/>
                </a:solidFill>
                <a:latin typeface="FlashDLig"/>
              </a:rPr>
              <a:t>Liquids</a:t>
            </a:r>
            <a:endParaRPr b="0" lang="en-US" sz="116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51" name="Picture 3" descr="j0282866"/>
          <p:cNvPicPr/>
          <p:nvPr/>
        </p:nvPicPr>
        <p:blipFill>
          <a:blip r:embed="rId1"/>
          <a:stretch/>
        </p:blipFill>
        <p:spPr>
          <a:xfrm>
            <a:off x="992160" y="2692440"/>
            <a:ext cx="2860560" cy="19368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j0112668[1]"/>
          <p:cNvPicPr/>
          <p:nvPr/>
        </p:nvPicPr>
        <p:blipFill>
          <a:blip r:embed="rId2"/>
          <a:srcRect l="0" t="6449" r="0" b="6449"/>
          <a:stretch/>
        </p:blipFill>
        <p:spPr>
          <a:xfrm>
            <a:off x="4797360" y="1828800"/>
            <a:ext cx="3565440" cy="42973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breeze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68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68" fill="hold"/>
                                        <p:tgtEl>
                                          <p:spTgt spid="6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FlashDLig"/>
              </a:rPr>
              <a:t>GAS</a:t>
            </a:r>
            <a:endParaRPr b="0" lang="en-US" sz="115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154080" cy="1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5" name="Picture 4" descr="j0181469"/>
          <p:cNvPicPr/>
          <p:nvPr/>
        </p:nvPicPr>
        <p:blipFill>
          <a:blip r:embed="rId1"/>
          <a:stretch/>
        </p:blipFill>
        <p:spPr>
          <a:xfrm>
            <a:off x="2057400" y="2438280"/>
            <a:ext cx="6781680" cy="38862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2" name="explode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68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68" fill="hold"/>
                                        <p:tgtEl>
                                          <p:spTgt spid="6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By adding energy the state changes.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plasma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+ energy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SSolidogas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+energy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liquids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+ energy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solids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8" name="Picture 402" descr="MCj02158370000[1]"/>
          <p:cNvPicPr/>
          <p:nvPr/>
        </p:nvPicPr>
        <p:blipFill>
          <a:blip r:embed="rId1"/>
          <a:stretch/>
        </p:blipFill>
        <p:spPr>
          <a:xfrm>
            <a:off x="1447920" y="5638680"/>
            <a:ext cx="914400" cy="6145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04" descr="MCj04348160000[1]"/>
          <p:cNvPicPr/>
          <p:nvPr/>
        </p:nvPicPr>
        <p:blipFill>
          <a:blip r:embed="rId2"/>
          <a:stretch/>
        </p:blipFill>
        <p:spPr>
          <a:xfrm>
            <a:off x="3048120" y="4572000"/>
            <a:ext cx="761760" cy="752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06" descr="MCj04417500000[1]"/>
          <p:cNvPicPr/>
          <p:nvPr/>
        </p:nvPicPr>
        <p:blipFill>
          <a:blip r:embed="rId3"/>
          <a:stretch/>
        </p:blipFill>
        <p:spPr>
          <a:xfrm>
            <a:off x="4267080" y="3657600"/>
            <a:ext cx="828720" cy="847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07" descr="MCj04348160000[1]"/>
          <p:cNvPicPr/>
          <p:nvPr/>
        </p:nvPicPr>
        <p:blipFill>
          <a:blip r:embed="rId4"/>
          <a:stretch/>
        </p:blipFill>
        <p:spPr>
          <a:xfrm>
            <a:off x="5638680" y="2514600"/>
            <a:ext cx="762120" cy="752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09" descr="MCj04413910000[1]"/>
          <p:cNvPicPr/>
          <p:nvPr/>
        </p:nvPicPr>
        <p:blipFill>
          <a:blip r:embed="rId5"/>
          <a:stretch/>
        </p:blipFill>
        <p:spPr>
          <a:xfrm>
            <a:off x="6934320" y="1600200"/>
            <a:ext cx="990360" cy="95256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0"/>
          <p:cNvSpPr/>
          <p:nvPr/>
        </p:nvSpPr>
        <p:spPr>
          <a:xfrm>
            <a:off x="2595960" y="5334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11"/>
          <p:cNvSpPr/>
          <p:nvPr/>
        </p:nvSpPr>
        <p:spPr>
          <a:xfrm>
            <a:off x="5186520" y="3276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6477120" y="2286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Box 15"/>
          <p:cNvSpPr/>
          <p:nvPr/>
        </p:nvSpPr>
        <p:spPr>
          <a:xfrm>
            <a:off x="2596680" y="6248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Box 16"/>
          <p:cNvSpPr/>
          <p:nvPr/>
        </p:nvSpPr>
        <p:spPr>
          <a:xfrm>
            <a:off x="549288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Box 17"/>
          <p:cNvSpPr/>
          <p:nvPr/>
        </p:nvSpPr>
        <p:spPr>
          <a:xfrm>
            <a:off x="8233560" y="25909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                   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Calisto MT"/>
              </a:rPr>
              <a:t>      </a:t>
            </a:r>
            <a:r>
              <a:rPr b="0" lang="en-US" sz="7200" spc="-1" strike="noStrike">
                <a:solidFill>
                  <a:srgbClr val="333333"/>
                </a:solidFill>
                <a:latin typeface="Calisto MT"/>
              </a:rPr>
              <a:t>THE END</a:t>
            </a:r>
            <a:endParaRPr b="0" lang="en-US" sz="72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22" dur="20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6:14:32Z</dcterms:created>
  <dc:creator>mmasters</dc:creator>
  <dc:description/>
  <dc:language>en-US</dc:language>
  <cp:lastModifiedBy>salome.matano</cp:lastModifiedBy>
  <dcterms:modified xsi:type="dcterms:W3CDTF">2012-04-17T01:13:55Z</dcterms:modified>
  <cp:revision>28</cp:revision>
  <dc:subject/>
  <dc:title>THE THREE STATES  OF MATTER  </dc:title>
</cp:coreProperties>
</file>